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8C0C-DC00-4A5D-B632-CF9472F5B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4EAF-C577-4E65-9721-0980AAE0E4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FCCD884-6861-419C-86C7-B887B81B5D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C73C-7FFA-4C7C-BCF4-8EE08D1B45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EAAF-BBD4-4A09-B7EA-C586ECDD1A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11A7-1227-4A75-AF95-9445787444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77D2-7D5A-426B-8AB2-D5C4B974A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803A-369A-4266-8EBF-CEE2059482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213E-CE9B-4DED-95A2-FD47C976E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838B-20E9-43AE-B1A7-FBDBD60055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5D95-109B-48EA-90A5-85F3BA350B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DC5D-B1CA-4A88-8609-C6E21E87D0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E801-5E3C-4386-B11E-3CC03F7BF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91F6-B5AC-4394-A40A-9EF7126545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484C-3CDF-45E8-8677-578B805A0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008E-88B2-431C-A0BD-59D70FB36B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1CAA-151C-4825-B9D1-330AC74DF31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D776-6CF3-46F3-BF5C-B66E34A76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63DA-CE82-470F-B033-A17760B542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E261-E307-4DA2-B05E-98670F00A4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802E-ADF7-4E6E-A207-99B24E393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8A96-1DA4-4AC8-A0E0-37645F314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1F9A-D94C-4BD5-9488-7E4D2D0DA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1B3E-1719-44EE-9F32-B618C3B6C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3449C-39A3-468E-8AA9-E8F12DFA3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6CE07-DB23-4D85-81D6-0BE161EA6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3FE2-2FBB-4CE9-B779-944DF2935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D8D-22BF-4931-92C5-92B8F8B574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6EA-A876-4BE1-BC79-48B46CDE40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A04-6C3D-4DA2-BD36-F5C4906EF1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7A0-F707-4999-9E0F-B9A9ED77AA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878-2074-4A41-8B73-62627B54A9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DC6-9FC3-450D-A5D0-B53F894060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574-2128-4A60-B6A3-606BB0A050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D339E-EC0F-40CE-8D8A-ED3D9DE11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D60-FE2B-4BE8-8DAC-F1FFF5688B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DD8-A438-40FB-AA90-EA11878A4E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29C-86DC-4312-8A2A-ED792DBBA1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070-C9D5-496F-AA34-47937A2C6A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D64-6A5E-4FDE-A4AA-3723AFF505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1D39A-3AF5-424D-8778-7EB86BD6B1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545BB-E4B2-44F1-84AC-21F7C94B4B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77B05-9DBC-4F57-A40B-2CCFEDB25E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13680-6D4C-4B77-9B20-9D1DB8E3EC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CE7BD-B6EF-4AC3-A6EC-696DC8A3C9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3EC5D-5989-40A6-8F88-97B15B9C27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A73EC-E914-4109-B7BA-5838E20692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0CF5B-4E9A-445D-BB9F-7048C463BA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706C8-5B02-4AA2-896D-C2FBA00ED4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81EEC-7E4B-4830-9298-15A609DAD6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5FC89-BFB9-4137-BE52-E4F5635FD8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4F789-9F3C-46ED-8BBC-357B059544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18CDD-EFFB-4337-96C6-98C39CE01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475F-40EF-4C90-8D0A-0F399F72A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4E48B-BC98-4149-A7E5-5DB4B8316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87B5-0939-4460-8ADC-42419B5FC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0A467-D259-4EDB-82DC-467F1875E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8A5A3-07D9-4F70-9A62-3D3E4B10F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B869-0EB0-4B7F-8096-74ADCF78F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352560"/>
            <a:ext cx="54100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1A23-731A-495A-943B-E0E42D2DB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0823-1233-45C2-9D7C-9757B095D0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457200" y="6324120"/>
            <a:ext cx="6781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8000640" y="6324120"/>
            <a:ext cx="685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75D7-935B-4957-8A82-4B38612A2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74" name="Text Box 16"/>
          <p:cNvSpPr/>
          <p:nvPr/>
        </p:nvSpPr>
        <p:spPr>
          <a:xfrm>
            <a:off x="1639800" y="1803240"/>
            <a:ext cx="758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троль процессов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троль качества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чественных и полуколичественных анализов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 использовании традиционных контрол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577520"/>
            <a:ext cx="853452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йте 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кже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пробы пац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положительный и отрицательный контро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ите слабо положительный контроль для иммунологических процед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оложительный контроль, близкий к порогу чувстви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ите контроль, который проверит этап выд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F883-1867-4CB0-B79B-DE565602C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ные штаммы для К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240" y="1231560"/>
            <a:ext cx="83818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алонные шт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штаммы, полученны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нозируемые реа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расители и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яют, что среды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ы и расход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териалы работают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4" descr="qc_bacteria"/>
          <p:cNvPicPr/>
          <p:nvPr/>
        </p:nvPicPr>
        <p:blipFill>
          <a:blip r:embed="rId1"/>
          <a:stretch/>
        </p:blipFill>
        <p:spPr>
          <a:xfrm>
            <a:off x="5638680" y="2286000"/>
            <a:ext cx="3200400" cy="2755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qc_growth_poor_growth_cdc"/>
          <p:cNvPicPr/>
          <p:nvPr/>
        </p:nvPicPr>
        <p:blipFill>
          <a:blip r:embed="rId2"/>
          <a:stretch/>
        </p:blipFill>
        <p:spPr>
          <a:xfrm>
            <a:off x="4800600" y="441972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280" name="Slide Number Placeholder 5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B83F-4840-4B87-AD0A-4BC045DF3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1" name="Footer Placeholder 6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67464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точники для приобретения                      эталонных штамм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520" y="2057400"/>
            <a:ext cx="815328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мериканская коллек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овых культ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циональная коллек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овых культ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ликобрит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лекция Института Паст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ранц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541A-946A-44AA-8F08-B4F9B6A187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552240"/>
            <a:ext cx="838188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4316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сители важны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–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заботьтесь о них!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5" descr="PICT0136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PICT0018"/>
          <p:cNvPicPr/>
          <p:nvPr/>
        </p:nvPicPr>
        <p:blipFill>
          <a:blip r:embed="rId2"/>
          <a:stretch/>
        </p:blipFill>
        <p:spPr>
          <a:xfrm>
            <a:off x="4952880" y="220968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0"/>
          <p:cNvSpPr/>
          <p:nvPr/>
        </p:nvSpPr>
        <p:spPr>
          <a:xfrm>
            <a:off x="5004000" y="525780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икакого внимания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660600" y="52578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Verdana"/>
              </a:rPr>
              <a:t>Постоянное внимани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8229600" y="64044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C5DA-68D2-47DD-A1F5-1CE3231A3F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красителям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меняйте установленные процедуры для приготовления и раствор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икетка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держание, концентрация, даты приготовления и начала использования, срок годности, иници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055A-5F84-424E-8309-318EEF2B6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нтроль качества для красителей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55320" y="1066680"/>
            <a:ext cx="855972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яйте в зависимости от конкретного крас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известными микроорганизмами или клет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образование кристаллов или осад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онтаминацию (бактерии или гриб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4" descr="hematol"/>
          <p:cNvPicPr/>
          <p:nvPr/>
        </p:nvPicPr>
        <p:blipFill>
          <a:blip r:embed="rId1"/>
          <a:stretch/>
        </p:blipFill>
        <p:spPr>
          <a:xfrm>
            <a:off x="609480" y="4267080"/>
            <a:ext cx="2743200" cy="19814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3505320" y="434340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ев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рашивание по Райту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рав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рашивание по Граму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1" name="Picture 6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5867280" y="4267080"/>
            <a:ext cx="2210040" cy="201960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BFA2-DBBB-4573-80E4-59317698AA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3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крашивание по Граму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0" y="50547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Хорошее</a:t>
            </a: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качеств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4419720" y="50547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лохое</a:t>
            </a: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9D8F-D0CD-4B25-8A7C-E64BF33AD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9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К микробиологических сред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яйте рабочие характеристики всех сре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се парт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лько новую сер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7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9"/>
          <p:cNvSpPr/>
          <p:nvPr/>
        </p:nvSpPr>
        <p:spPr>
          <a:xfrm>
            <a:off x="3505320" y="3726000"/>
            <a:ext cx="236196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К агара МакКонки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ев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е ферментирующий лактозу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рав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ерментирующий лактозу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F58D-32A3-4844-A8C4-44D97B3A1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збегать следующих проблем со средам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4876920" y="1295280"/>
            <a:ext cx="4190400" cy="1524240"/>
            <a:chOff x="4876920" y="1295280"/>
            <a:chExt cx="4190400" cy="1524240"/>
          </a:xfrm>
        </p:grpSpPr>
        <p:grpSp>
          <p:nvGrpSpPr>
            <p:cNvPr id="320" name="Group 7"/>
            <p:cNvGrpSpPr/>
            <p:nvPr/>
          </p:nvGrpSpPr>
          <p:grpSpPr>
            <a:xfrm>
              <a:off x="4876920" y="1295280"/>
              <a:ext cx="2514240" cy="914400"/>
              <a:chOff x="4876920" y="1295280"/>
              <a:chExt cx="2514240" cy="914400"/>
            </a:xfrm>
          </p:grpSpPr>
          <p:sp>
            <p:nvSpPr>
              <p:cNvPr id="321" name="AutoShape 8"/>
              <p:cNvSpPr/>
              <p:nvPr/>
            </p:nvSpPr>
            <p:spPr>
              <a:xfrm>
                <a:off x="4955400" y="1752480"/>
                <a:ext cx="2396520" cy="399960"/>
              </a:xfrm>
              <a:prstGeom prst="can">
                <a:avLst>
                  <a:gd name="adj" fmla="val 50000"/>
                </a:avLst>
              </a:prstGeom>
              <a:solidFill>
                <a:srgbClr val="ff260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AutoShape 9"/>
              <p:cNvSpPr/>
              <p:nvPr/>
            </p:nvSpPr>
            <p:spPr>
              <a:xfrm>
                <a:off x="4876920" y="1295280"/>
                <a:ext cx="2514240" cy="914400"/>
              </a:xfrm>
              <a:prstGeom prst="can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3" name="Group 10"/>
            <p:cNvGrpSpPr/>
            <p:nvPr/>
          </p:nvGrpSpPr>
          <p:grpSpPr>
            <a:xfrm>
              <a:off x="6553080" y="1905120"/>
              <a:ext cx="2514240" cy="914400"/>
              <a:chOff x="6553080" y="1905120"/>
              <a:chExt cx="2514240" cy="914400"/>
            </a:xfrm>
          </p:grpSpPr>
          <p:sp>
            <p:nvSpPr>
              <p:cNvPr id="324" name="AutoShape 11"/>
              <p:cNvSpPr/>
              <p:nvPr/>
            </p:nvSpPr>
            <p:spPr>
              <a:xfrm>
                <a:off x="6553080" y="2019240"/>
                <a:ext cx="2514240" cy="800280"/>
              </a:xfrm>
              <a:prstGeom prst="can">
                <a:avLst>
                  <a:gd name="adj" fmla="val 50000"/>
                </a:avLst>
              </a:prstGeom>
              <a:solidFill>
                <a:srgbClr val="ff260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25" name="Group 12"/>
              <p:cNvGrpSpPr/>
              <p:nvPr/>
            </p:nvGrpSpPr>
            <p:grpSpPr>
              <a:xfrm>
                <a:off x="7353000" y="2019240"/>
                <a:ext cx="456840" cy="199800"/>
                <a:chOff x="7353000" y="2019240"/>
                <a:chExt cx="456840" cy="199800"/>
              </a:xfrm>
            </p:grpSpPr>
            <p:sp>
              <p:nvSpPr>
                <p:cNvPr id="326" name="Oval 13"/>
                <p:cNvSpPr/>
                <p:nvPr/>
              </p:nvSpPr>
              <p:spPr>
                <a:xfrm>
                  <a:off x="7524360" y="2019240"/>
                  <a:ext cx="114120" cy="56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7" name="Oval 14"/>
                <p:cNvSpPr/>
                <p:nvPr/>
              </p:nvSpPr>
              <p:spPr>
                <a:xfrm>
                  <a:off x="7353000" y="2019240"/>
                  <a:ext cx="456840" cy="1998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8" name="Oval 15"/>
                <p:cNvSpPr/>
                <p:nvPr/>
              </p:nvSpPr>
              <p:spPr>
                <a:xfrm>
                  <a:off x="7381440" y="2019240"/>
                  <a:ext cx="399960" cy="171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9" name="Oval 16"/>
                <p:cNvSpPr/>
                <p:nvPr/>
              </p:nvSpPr>
              <p:spPr>
                <a:xfrm>
                  <a:off x="7409880" y="2019240"/>
                  <a:ext cx="342720" cy="142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0" name="Oval 17"/>
                <p:cNvSpPr/>
                <p:nvPr/>
              </p:nvSpPr>
              <p:spPr>
                <a:xfrm>
                  <a:off x="7438680" y="2019240"/>
                  <a:ext cx="285480" cy="1141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1" name="Oval 18"/>
                <p:cNvSpPr/>
                <p:nvPr/>
              </p:nvSpPr>
              <p:spPr>
                <a:xfrm>
                  <a:off x="7467120" y="2019240"/>
                  <a:ext cx="228240" cy="85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24480" bIns="24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2" name="Oval 19"/>
                <p:cNvSpPr/>
                <p:nvPr/>
              </p:nvSpPr>
              <p:spPr>
                <a:xfrm>
                  <a:off x="7495560" y="2019240"/>
                  <a:ext cx="171360" cy="56880"/>
                </a:xfrm>
                <a:prstGeom prst="ellipse">
                  <a:avLst/>
                </a:prstGeom>
                <a:noFill/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33" name="AutoShape 20"/>
              <p:cNvSpPr/>
              <p:nvPr/>
            </p:nvSpPr>
            <p:spPr>
              <a:xfrm>
                <a:off x="6553080" y="1905120"/>
                <a:ext cx="2514240" cy="914400"/>
              </a:xfrm>
              <a:prstGeom prst="can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34" name="Group 21"/>
              <p:cNvGrpSpPr/>
              <p:nvPr/>
            </p:nvGrpSpPr>
            <p:grpSpPr>
              <a:xfrm>
                <a:off x="8295840" y="2076480"/>
                <a:ext cx="456840" cy="199800"/>
                <a:chOff x="8295840" y="2076480"/>
                <a:chExt cx="456840" cy="199800"/>
              </a:xfrm>
            </p:grpSpPr>
            <p:sp>
              <p:nvSpPr>
                <p:cNvPr id="335" name="Oval 22"/>
                <p:cNvSpPr/>
                <p:nvPr/>
              </p:nvSpPr>
              <p:spPr>
                <a:xfrm>
                  <a:off x="8467200" y="2076480"/>
                  <a:ext cx="114120" cy="56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Oval 23"/>
                <p:cNvSpPr/>
                <p:nvPr/>
              </p:nvSpPr>
              <p:spPr>
                <a:xfrm>
                  <a:off x="8295840" y="2076480"/>
                  <a:ext cx="456840" cy="1998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Oval 24"/>
                <p:cNvSpPr/>
                <p:nvPr/>
              </p:nvSpPr>
              <p:spPr>
                <a:xfrm>
                  <a:off x="8324280" y="2076480"/>
                  <a:ext cx="399960" cy="171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Oval 25"/>
                <p:cNvSpPr/>
                <p:nvPr/>
              </p:nvSpPr>
              <p:spPr>
                <a:xfrm>
                  <a:off x="8352720" y="2076480"/>
                  <a:ext cx="342720" cy="142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Oval 26"/>
                <p:cNvSpPr/>
                <p:nvPr/>
              </p:nvSpPr>
              <p:spPr>
                <a:xfrm>
                  <a:off x="8381520" y="2076480"/>
                  <a:ext cx="285480" cy="1141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Oval 27"/>
                <p:cNvSpPr/>
                <p:nvPr/>
              </p:nvSpPr>
              <p:spPr>
                <a:xfrm>
                  <a:off x="8409960" y="2076480"/>
                  <a:ext cx="228240" cy="85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24480" bIns="24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Oval 28"/>
                <p:cNvSpPr/>
                <p:nvPr/>
              </p:nvSpPr>
              <p:spPr>
                <a:xfrm>
                  <a:off x="8438400" y="2076480"/>
                  <a:ext cx="171360" cy="56880"/>
                </a:xfrm>
                <a:prstGeom prst="ellipse">
                  <a:avLst/>
                </a:prstGeom>
                <a:noFill/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342" name="Text Box 32"/>
          <p:cNvSpPr/>
          <p:nvPr/>
        </p:nvSpPr>
        <p:spPr>
          <a:xfrm>
            <a:off x="836640" y="1695600"/>
            <a:ext cx="44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сохший агар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ированные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533520" y="3112920"/>
            <a:ext cx="8153280" cy="265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еловеческую кров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дует использовать, потому чт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ишком  большая вариация между сериями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 содержать ингибиторы, включая антибактериальны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нциальная биологическая опасност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имер, вирусы гепати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4" name="Picture 27" descr="bio_hazrd_red_blk_cdc"/>
          <p:cNvPicPr/>
          <p:nvPr/>
        </p:nvPicPr>
        <p:blipFill>
          <a:blip r:embed="rId1"/>
          <a:stretch/>
        </p:blipFill>
        <p:spPr>
          <a:xfrm>
            <a:off x="7023240" y="5432400"/>
            <a:ext cx="1143000" cy="892080"/>
          </a:xfrm>
          <a:prstGeom prst="rect">
            <a:avLst/>
          </a:prstGeom>
          <a:ln w="0">
            <a:noFill/>
          </a:ln>
        </p:spPr>
      </p:pic>
      <p:sp>
        <p:nvSpPr>
          <p:cNvPr id="345" name="Slide Number Placeholder 28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525C-BECD-4DFB-8E63-77E62CDF04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Footer Placeholder 29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431280"/>
            <a:ext cx="8382240" cy="5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качества ростовых сред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8" name="Picture 3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457200" y="1184400"/>
            <a:ext cx="8153280" cy="50641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8"/>
          <p:cNvSpPr/>
          <p:nvPr/>
        </p:nvSpPr>
        <p:spPr>
          <a:xfrm>
            <a:off x="380880" y="1143000"/>
            <a:ext cx="838224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едите записи сред, приготовленных в лаборатории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писывайте в журнал для сре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р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териль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пособность поддерживать рост контрольных штаммов, биохимические реакции контрольных штаммов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та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еряйте каждую новую партию или серию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E52C-03F0-4FAF-90FA-F13A22FD28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Footer Placeholder 5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495440"/>
            <a:ext cx="8407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ить встроенные и традиционные контро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использовать контрольные культуры для микробиологического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рименение процедур по контролю качества красителей, используемых в микроскопических исследован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методы проверки характеристик микробиологических сре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D539-58E8-4264-BAEA-B85672EF1D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8305920" cy="41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енные анализы дают нечисловые результа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луколичественные анализы дают оценк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ведите программу КК для качественных и полуколичественных анализ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7122-7F74-459C-AA7F-0E14B09D90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371240"/>
            <a:ext cx="83818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 КК соблюдаются ВСЕМИ сотруд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гда записывайте результаты КК и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сли результаты КК не приемлемы, то не выдавайте отчет с результатами анализов пациентов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801F-A7BD-45DD-A16E-1F99619DB4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595D-6DDC-47FC-BE5B-7E6A021E3E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6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6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9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1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9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0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0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1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1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1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1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1" lang="en-US" sz="9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420" name="Footer Placeholder 1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А провела культуральное исследование и идентифициро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негнойную палочк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меры контроля качества вы бы использовали, чтобы подтвердить, что микроорганизм был определен правильн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505C-7124-4D32-9000-E833D477C1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3E61-DC87-4793-83B1-19CA1BB348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20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1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47" name="Footer Placeholder 1"/>
          <p:cNvSpPr/>
          <p:nvPr/>
        </p:nvSpPr>
        <p:spPr>
          <a:xfrm>
            <a:off x="457200" y="6352920"/>
            <a:ext cx="54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чественные и полуколичественные исследования – Пример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90720" y="1676520"/>
            <a:ext cx="640080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кроскопические исследования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ст-полоски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рологические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кробиологические процедур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юбые реакции, которые дают нечисловой результ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990720" y="4495680"/>
            <a:ext cx="6572160" cy="1690560"/>
            <a:chOff x="990720" y="4495680"/>
            <a:chExt cx="6572160" cy="1690560"/>
          </a:xfrm>
        </p:grpSpPr>
        <p:pic>
          <p:nvPicPr>
            <p:cNvPr id="251" name="Picture 6" descr="micro"/>
            <p:cNvPicPr/>
            <p:nvPr/>
          </p:nvPicPr>
          <p:blipFill>
            <a:blip r:embed="rId1"/>
            <a:srcRect l="0" t="0" r="4400" b="1607"/>
            <a:stretch/>
          </p:blipFill>
          <p:spPr>
            <a:xfrm>
              <a:off x="5105520" y="4495680"/>
              <a:ext cx="2457360" cy="16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" descr="agglut"/>
            <p:cNvPicPr/>
            <p:nvPr/>
          </p:nvPicPr>
          <p:blipFill>
            <a:blip r:embed="rId2"/>
            <a:srcRect l="15272" t="17455" r="15272" b="14546"/>
            <a:stretch/>
          </p:blipFill>
          <p:spPr>
            <a:xfrm>
              <a:off x="2895840" y="4495680"/>
              <a:ext cx="22096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8" descr="http://www.academic.marist.edu/~jzmz/methods/wbcrbc.jpg"/>
            <p:cNvPicPr/>
            <p:nvPr/>
          </p:nvPicPr>
          <p:blipFill>
            <a:blip r:embed="rId3"/>
            <a:srcRect l="20336" t="0" r="0" b="0"/>
            <a:stretch/>
          </p:blipFill>
          <p:spPr>
            <a:xfrm>
              <a:off x="990720" y="4495680"/>
              <a:ext cx="1941480" cy="16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Slide Number Placeholder 7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BD45-E7CE-4188-922A-11292F3B82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Footer Placeholder 8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принцип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117440" y="1606680"/>
            <a:ext cx="71884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мпетентность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служивание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ьные матери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красителями, средами и реаг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де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3F4C-B572-4C6C-A793-9C18296EB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териалы для контроля качеств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84280" y="1828440"/>
            <a:ext cx="840744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строенные контрол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ные материалы, имитирующие пробы пациент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ные микроорганизм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20E8-A65F-469A-A1C8-84B9048CB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3529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строенные контрол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9880" y="1599840"/>
            <a:ext cx="82551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троены в приспособление для проведения тес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ируются автоматически при выполнении тес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вают определенные аспекты работы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, не оценивают весь процесс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8077320" y="640440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4D29-3046-4896-8858-BEDA7218DD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35292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диционные контроли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1640" y="1887120"/>
            <a:ext cx="840744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ы с известными свой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итируют пробы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вают работу всей аналитической сист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8153280" y="640440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5453-D842-48F7-8BB1-7DE9EF7C1D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3529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2T09:19:44Z</dcterms:modified>
  <cp:revision>505</cp:revision>
  <dc:subject/>
  <dc:title>Slide 1</dc:title>
</cp:coreProperties>
</file>